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E38C-512E-4E7F-B706-D0D991E71C7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8997-248A-41B2-B49D-A74400DB1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ECA8-48EE-4F50-A45F-A107FB2E43F2}"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DC2E-BA3A-4500-91D1-B5C051B52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6EAC-F5F2-4AEF-A091-B84A6D054F49}"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6934-CB54-4637-83F8-6090B3A9C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13BF-6279-4A35-8CA9-9683A91A188D}"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09E0-3BFE-4075-8498-EE720CDFE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03A2-889F-478E-A4A0-2894387C7C8A}"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67DC-9775-4CEA-9E7F-434795F39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7B41-BC2D-4CB8-B937-9A880CA2504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879A-ED1E-4B55-9C7B-56F2CE00D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7A73-50C9-457C-9ECA-0BB160EFE0A0}"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E195-3A02-4EE6-BCE8-AF19DC0D7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DD6D-FE0F-4ED4-BF55-73532B429001}"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FD38-B069-4B05-AA4D-A45F3D227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BEB2-D3FD-4EF4-977B-3F975975228A}"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2E4A-A6E0-4F1C-A287-62E904CAF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22A2-698D-41F8-AAC0-50A234FD6E69}"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16F3-2429-4E11-973B-09B957ABF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DD70-8D07-4F6F-854C-D77142D114BB}"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54D3-E590-4AFA-A83B-DAC222452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DC26-40F6-4BBE-9B09-BAB665D687DB}"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CF8E-B508-41D9-842B-A73BD3005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26ED-8C56-4961-9F36-F8B9AE9B865E}"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0FE3-53C1-4E6B-B201-ECCA3AB3A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923268-6954-44FA-9B34-7400F181556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D6259BC8-904E-43E7-964B-825AEA457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F4DA3BC4-7E09-4D0F-8927-4F7BE5982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ECE8D333-00B7-40EE-8D59-DF3F6AFDCE7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0A1014C-CEFE-4B57-9F31-F6D769630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EF7367B1-658F-4AC3-AE0A-7E2D318B7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2B930F39-CC98-4ECC-9869-045C1B3C9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0DE4B53A-862B-422B-9247-C5D62122F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F0DEE59-39FA-4D35-AF1F-9DDF459E5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6224B08D-F05B-4755-8668-5D874413E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2667BFC0-C9AC-4CD4-99E7-04FAADFEF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0F7C2F67-9BD2-44BB-A5E9-1B2E8ED5F09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5E01-624C-4167-8AA1-8D890D4D8F27}" type="datetime5">
              <a:rPr b="0" lang="en-US" sz="1000" spc="-1" strike="noStrike">
                <a:solidFill>
                  <a:srgbClr val="898989"/>
                </a:solidFill>
                <a:latin typeface="Times New Roman"/>
              </a:rPr>
              <a:t>Jul 30,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1A86-4791-4EA2-9150-686C9220EE09}"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A554-6981-4584-8D20-96BFFC5B9D41}"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D53D-9122-4049-BC0C-1B975F79CD7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9E10-1AAD-4C04-8AFF-402464E2851E}"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5B4E-C8DF-4F4D-A69F-85DD67DD1A6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E497-1BC0-4D18-9458-6F25E2E6F025}"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96EF-FE2E-4E40-820C-0F42ACB9D01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F4E6-BB89-4676-A5CA-3132DFD8751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B3A5-5761-4788-A35D-6B98BF306B9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BA56-8079-4E17-8EAA-B94A34721173}"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DE16-0AA0-4CC9-8A80-4138B4D4097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A8D9D-0719-47DB-B44A-3D15440E92CB}"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9778-80FA-4D53-B680-96E68509BCF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5469-720A-4E95-AAD7-903EF5F60E33}"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6195-94DF-4E6A-AEA7-D330D1428CB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8CFE-F503-4681-A115-FAA960FE965F}"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A120-1E9D-4749-948D-E9B8E85F053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195F-F542-4072-AC42-96C8F2F05EC9}"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A411-5F50-42BA-A231-E1ADC9CDAD9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54C7-A0EC-47C4-B515-4AB92F335226}" type="datetime5">
              <a:rPr b="0" lang="en-US" sz="1000" spc="-1" strike="noStrike">
                <a:solidFill>
                  <a:srgbClr val="898989"/>
                </a:solidFill>
                <a:latin typeface="Arial"/>
              </a:rPr>
              <a:t>Jul 30,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153E-B7C3-4714-BA4F-46DB8EF1B2E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